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2336-1A12-4A44-9F28-E6D177C274EC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848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CE497944-384A-4FF8-8269-CAFFB43DB884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83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88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95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102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2-25T10:14:48Z</dcterms:modified>
  <cp:revision>105</cp:revision>
  <dc:subject/>
  <dc:title>PowerPoint-Präsentation</dc:title>
</cp:coreProperties>
</file>